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ADC9-4E77-4D7C-BEA6-4718F0F1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5AE4-C687-47FF-968E-97275DFB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D39E-273A-4090-A85B-D894E620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36D-AD15-43DF-9184-D74CA380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0A4E-2FC6-432A-AD0C-64E88D50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DA71-7A92-47C3-9628-F3BD3FB5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D2E7-4978-41AE-B858-0EFDD693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CAC2-A8AD-42F1-905B-DF8E4132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7921-BB39-4F0F-AD2A-268F1FCF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E7F9-C616-4533-983F-A2625309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FCC5-BB9F-42B7-95F9-8D25998D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78A3-78AD-4F31-890A-49766C27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A904-0019-4E58-B0DE-EF4E49558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pitel 4 Proje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ka Cazze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utsch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bin in der Junior Varsity und Varsity Fu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all mannschaft jedes Jahr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all ist meine Lieblingsspo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66880" y="2895480"/>
            <a:ext cx="381024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bin in der Tauchen mannschaft jeden Herbst. Tauchen es fle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39625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esse viel Obst und G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se jeden Ta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581280" cy="2382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3429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ex, Du sch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ä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 zu viel jeden Tag es ist sehr schlecht 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r dich Gesundhe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Wild Animal animals zone Animals Pictures  Sleeping animals"/>
          <p:cNvPicPr/>
          <p:nvPr/>
        </p:nvPicPr>
        <p:blipFill>
          <a:blip r:embed="rId1"/>
          <a:stretch/>
        </p:blipFill>
        <p:spPr>
          <a:xfrm>
            <a:off x="685800" y="21337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895480" cy="2163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819520" y="4724280"/>
            <a:ext cx="289548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dine, du bist fit 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ä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st weil dich tun Gymnastik machst jedes Wochenend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00800" y="2438280"/>
            <a:ext cx="1704960" cy="3048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57200" y="2438280"/>
            <a:ext cx="1951200" cy="2819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666880" y="2743200"/>
            <a:ext cx="30672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darf Criminal Minds im Ferhensehen jeden Dienstag und Donnersta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401940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darf keine in Hausaufgaben arbeiten weil Ich habe kassier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3300480" cy="317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4120" y="2286000"/>
            <a:ext cx="31240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7:20:28Z</dcterms:created>
  <dc:creator>CUSD220</dc:creator>
  <dc:description/>
  <dc:language>en-US</dc:language>
  <cp:lastModifiedBy>CUSD220</cp:lastModifiedBy>
  <dcterms:modified xsi:type="dcterms:W3CDTF">2012-02-29T14:01:09Z</dcterms:modified>
  <cp:revision>4</cp:revision>
  <dc:subject/>
  <dc:title>Kapitel 4 Projekt</dc:title>
</cp:coreProperties>
</file>